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7.wmf" ContentType="image/x-wmf"/>
  <Override PartName="/ppt/media/image20.jpeg" ContentType="image/jpeg"/>
  <Override PartName="/ppt/media/APPLAUSE.WAV" ContentType="audio/x-wav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4.jpeg" ContentType="image/jpeg"/>
  <Override PartName="/ppt/media/image24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0D7-7D2A-468E-AEE3-C75637E6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6EB-197A-48B4-9E69-D341E03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F81-AE3E-4D70-BEE4-CB9A06D2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48D-0DF7-4CAF-9FFF-CCD86670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2D2-7195-406D-A1A8-FA54D1CD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7BA-47DD-4F70-A1E6-77D29826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92B-4090-4160-98F9-D5D6265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600-AEB9-4F38-BE2E-831CA99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441-DF65-44DD-A04E-8752C5B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0E1-03DB-42E0-9843-30D7FFC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09B-9618-46AC-968C-2BD6647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012-1C29-4057-AC87-F1FA14B0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E95-92AC-43A9-93FE-520E83A85D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1ACA-430D-4C8F-9A5A-FCE02563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" Target="slide42.xml"/><Relationship Id="rId41" Type="http://schemas.openxmlformats.org/officeDocument/2006/relationships/slide" Target=""/><Relationship Id="rId42" Type="http://schemas.openxmlformats.org/officeDocument/2006/relationships/slide" Target="slide44.xml"/><Relationship Id="rId43" Type="http://schemas.openxmlformats.org/officeDocument/2006/relationships/slide" Target=""/><Relationship Id="rId44" Type="http://schemas.openxmlformats.org/officeDocument/2006/relationships/slide" Target="slide46.xml"/><Relationship Id="rId45" Type="http://schemas.openxmlformats.org/officeDocument/2006/relationships/slide" Target=""/><Relationship Id="rId46" Type="http://schemas.openxmlformats.org/officeDocument/2006/relationships/slide" Target="slide48.xml"/><Relationship Id="rId47" Type="http://schemas.openxmlformats.org/officeDocument/2006/relationships/slide" Target=""/><Relationship Id="rId48" Type="http://schemas.openxmlformats.org/officeDocument/2006/relationships/slide" Target="slide50.xml"/><Relationship Id="rId49" Type="http://schemas.openxmlformats.org/officeDocument/2006/relationships/slide" Target=""/><Relationship Id="rId5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st-horror-movies.com/images/dracula-bela-lugosi-2-small-2.jpg&amp;imgrefurl=http://www.best-horror-movies.com/Classic-movie-monster.html&amp;h=359&amp;w=285&amp;sz=19&amp;tbnid=npDdEqdd1YAyXM:&amp;tbnh=121&amp;tbnw=96&amp;prev=/images%3Fq%3Ddracula%26um%3D1&amp;start=1&amp;sa=X&amp;oi=images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mdb.com/title/tt0103874/poster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tefano.com/GRAPHICS/stakes4.jpg&amp;imgrefurl=http://www.distefano.com/Stakes.htm&amp;h=519&amp;w=741&amp;sz=76&amp;tbnid=CI8LhO1TOiXXfM:&amp;tbnh=99&amp;tbnw=141&amp;prev=/images%3Fq%3Dwooden%2Bstake%26um%3D1&amp;start=1&amp;sa=X&amp;oi=images&amp;ct=image&amp;cd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jupiterimages.com/common/detail/53/63/23326353.jpg&amp;imgrefurl=http://www.jupiterimages.com/itemDetail.aspx%3FitemID%3D23326353&amp;h=250&amp;w=250&amp;sz=19&amp;hl=en&amp;start=10&amp;um=1&amp;tbnid=VowHuHtXk9O4oM:&amp;tbnh=111&amp;tbnw=111&amp;prev=/images%3Fq%3Dsilver%2Bbullet%26svnum%3D10%26um%3D1%26hl%3Den%26rlz%3D1T4ADBR_enUS230US230%26sa%3D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sjeopardy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mp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s to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23619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cooling to most people but burns a vamp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4266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holy wa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4678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ote the most popular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ook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9880" y="2509920"/>
            <a:ext cx="1524240" cy="183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Bram Stok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cula’s homet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990720"/>
            <a:ext cx="1454400" cy="197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ransylvan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end that Dracula is bas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86200" y="1066680"/>
            <a:ext cx="1359000" cy="185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27730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lad the Impal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92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http://www.best-horror-movies.com/Classic-movie-monster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09680"/>
            <a:ext cx="260676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movies have been made about Dracul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200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96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956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800" y="6163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74320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vie starring Anthony Hopkins, Wynona Ryder, and Keanu Reeves was released in this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4723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rac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- 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2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Dracu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838080"/>
            <a:ext cx="2714760" cy="34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 character who is a modern day vampire hunter who happens to have some vampire blood of his 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655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l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271760" cy="317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Cruise tells his story in this film based on the book by Anne 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8002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terview with a Vampi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Interview with the Vampire: The Vampire Chronicles"/>
          <p:cNvPicPr/>
          <p:nvPr/>
        </p:nvPicPr>
        <p:blipFill>
          <a:blip r:embed="rId1"/>
          <a:stretch/>
        </p:blipFill>
        <p:spPr>
          <a:xfrm>
            <a:off x="3124080" y="914400"/>
            <a:ext cx="267336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in character belongs to a secret organization that seeks strange creatures of the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Van Hels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Van Helsing (2004) Poster"/>
          <p:cNvPicPr/>
          <p:nvPr/>
        </p:nvPicPr>
        <p:blipFill>
          <a:blip r:embed="rId1"/>
          <a:stretch/>
        </p:blipFill>
        <p:spPr>
          <a:xfrm>
            <a:off x="3048120" y="457200"/>
            <a:ext cx="2789280" cy="41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recent addition to the vampire scene starring Lucy Lu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609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ise: Blood Hun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92428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234504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some legends, how many times must a human be bitten before turning into a vamp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 where Vampire and Werewolf clans fight fo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Underwor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3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Underworld (Widescreen Special Edition)"/>
          <p:cNvPicPr/>
          <p:nvPr/>
        </p:nvPicPr>
        <p:blipFill>
          <a:blip r:embed="rId1"/>
          <a:stretch/>
        </p:blipFill>
        <p:spPr>
          <a:xfrm>
            <a:off x="2895480" y="914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olves a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wooden sta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http://www.distefano.com/Stake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57200"/>
            <a:ext cx="3353040" cy="23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olves walking around during the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3880" y="4876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un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380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us symbol found in most chur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86160" cy="46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961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rucif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1803240" cy="270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a sterling alter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6854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lver bull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666880"/>
            <a:ext cx="2585880" cy="258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666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getable that repels vamp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18840"/>
            <a:ext cx="22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66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avorite in medieval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decapit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4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146844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series of books where the main character has the same name as the author and there is a struggle between good and evil vampi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1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655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irque du Frea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1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Product Cover"/>
          <p:cNvPicPr/>
          <p:nvPr/>
        </p:nvPicPr>
        <p:blipFill>
          <a:blip r:embed="rId1"/>
          <a:stretch/>
        </p:blipFill>
        <p:spPr>
          <a:xfrm>
            <a:off x="3276720" y="1828800"/>
            <a:ext cx="2638440" cy="415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28983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eries of books about the Vampire Lest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2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00200" y="258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terview With a Vampi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Product Cover"/>
          <p:cNvPicPr/>
          <p:nvPr/>
        </p:nvPicPr>
        <p:blipFill>
          <a:blip r:embed="rId1"/>
          <a:stretch/>
        </p:blipFill>
        <p:spPr>
          <a:xfrm>
            <a:off x="3505320" y="2057400"/>
            <a:ext cx="2458800" cy="39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71600" y="9604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889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ry and western singer from the 1970’s who played a prominent role in the popular vampire trilogy,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l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ris Kristoff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3880" y="2666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comfortable place for vampires to slee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off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973160" cy="180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4038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garl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2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17859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5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62404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efer Sutherland, now star of 24, got his start in this popular vampire movie of the 1980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Lost Bo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5: $5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12952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419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books written by Stephenie Meyer about vampi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28951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nimal that vampires pre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3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3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930320" cy="101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7377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mpires’ favorite food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400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l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4640" y="617112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egory 1: $400: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jcook</cp:lastModifiedBy>
  <dcterms:modified xsi:type="dcterms:W3CDTF">2007-09-07T13:31:57Z</dcterms:modified>
  <cp:revision>89</cp:revision>
  <dc:subject/>
  <dc:title>Blank Jeopardy</dc:title>
</cp:coreProperties>
</file>